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0838-5839-4663-B0F2-64DE248E5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B7D-2D3D-47E6-A718-C9BCEC3A3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5EDF15-83D5-477B-BAE4-6CEAE5E8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779-2AD0-4B63-ACF8-4A5C05140A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8159-FCDC-4855-9AF2-BED8D6EE26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40DA-5762-49C0-ABB2-3BF260B9555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4B9-DBA1-4D83-ADD7-64A46D4235C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293-8579-4CD6-ADD0-44A6DF433A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2C7C-03F8-40FA-8A83-0D9A4A463EA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0EF-33D1-4E78-A60B-DC490D63CB6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F97-47CF-48E8-99A0-CA11F873A0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A349-22BE-473C-9658-F01E50193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E9F5D2-B06A-470F-A40A-3BFB6FA6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F5C0E3-D827-4294-AEA6-298ABA0E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9604DB-93BF-48AD-8329-FC844CA5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3697-6174-4305-9CA9-DAAB4DE0AE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DBE6-93C3-4198-AE0B-84F1302ED1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DA3-9A80-451C-B6BB-F171B5BFFA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B67-E71F-41CE-8D1A-4FBD997944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5AC-2312-48BF-91E4-456875D35C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00F-7BFE-4E1E-AB41-FEAF173B7A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7562-2AE7-4A1C-B4D3-3D2A57F644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33DD-D307-4AB7-87D8-E1D30BDB372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DD3-F151-4BC4-8B23-AE5A76C73C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237-2454-40C2-B535-A8C7694C94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630-0E3C-49E6-8D14-A4712B5C35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E97E-C535-4EF1-A2EE-FCAB00BF3C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582-CF3E-47E0-8CA0-FC9700319C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9C8-4A86-4FE4-B55A-B3C6C60913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B7D-53DA-4782-87E7-237AB88CB5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F7A5A11-0626-4459-B6E7-0885B208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6B4AF9-93DF-4FA5-8025-B465CCC4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9A5-F628-4FA1-AE99-D3247F71CD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41E-AB19-4BE3-81BD-301D9552192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8A9-10D6-4309-9365-017D0B25B8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7E8B-72D9-40D8-833F-DB0E6C009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638C-F596-4E85-8609-201B181F27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FB7C-D79F-4410-90C2-D8068297A48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E2B2-13C6-4818-AD2E-32EDA2EEB2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66BD-79BF-4569-A733-0E4C0222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F06D-455F-496B-8713-B2F99B7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D309-286B-47BF-AC74-D1FCCB3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5297-012F-4B25-9859-2E83DA0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69B2-EA87-4E35-9427-2489ACC3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3B10-BFEB-4D1F-AA2D-654F67E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C884-2F01-4C55-A79C-D70D8DB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FE3E-18FD-4FAC-8730-0F6F5CD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12F4-90B1-4EEB-8458-F4D0A7E7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1477-C032-4B44-8EAE-0355444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B5F13-E033-411C-98F8-230CE5EE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AA39-D442-44D8-9C5F-19E16562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763A-AE18-4454-A37E-345843FE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3C4B-1535-4530-AB41-B9CF79A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934A-13B7-458F-9059-5D85442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202E-CF54-4A98-9D75-A9AAE64F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A132-1A80-4EB9-9C5E-68204B3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7B43-D811-4391-9B2F-1990EA4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3635-663F-4A46-86E3-724C073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D8D9-6DD1-499F-86BE-EE4BE5F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C2F43-8CD6-4B36-8FB2-ABD6BD0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8A7E-C801-4765-8675-79E460D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06CB-E418-4BD4-A881-C80B780C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CCE89-6F0A-4DBD-B3AE-5032E003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25E3-E851-4436-AED7-8D33EB4E3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9F2B-CC35-4FE4-BC62-9C966C503F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1EDE-F4F1-4469-BF61-DCD7821B55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6CC3-0689-48C0-8DE5-BA1437B64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6093-B6AE-42BC-9B05-6A9B95D6D2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24258-C6E7-4BA0-9C87-71F2F4A7AC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8DA3E-81B8-41A5-BED3-72DEC75E33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1D7A-EC38-43E5-9BC9-88F3B37B03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63F4E-7EAD-43CE-827F-A8438332D3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ACF8-F96C-421B-97CB-50FBBE0452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4349A-77DB-41B8-877F-B46350B200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D7390-4E88-4EC1-8F67-E056C590A7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CC922-04AF-48DF-9A11-503FB5E8E7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9161-1974-448A-9C7A-4366CCB6C8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D97F-3587-4980-A555-57071AD2A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03A3-DA1C-4ABD-BD87-F9A9769558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4662-E41F-4A2B-98F6-D88397D95A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5A70-30FB-4CB0-BE5A-B004F1F5EC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0FB7-9F6E-4464-9DA6-CB52750835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D3B-A3E5-4FF3-8636-D231A8E435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19B1-A8BC-45F5-8839-248175A0A8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72F-F253-4FB9-BE53-6DCE1B4D25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A22C-8856-4715-A384-A5A4668619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C592-376F-43BD-86F2-E83AB87F56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CD4-3166-4B2B-B946-2E9DDF7877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091F-228C-42ED-BE80-ECCFE90BA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EFE0-413A-4161-9CDA-8AD51890E2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9A45-AFCC-4CF0-841C-4C0BAC0AE8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886C-BE25-4547-913F-520066FF51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5627-CAA5-40F0-A100-2D80410B81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56B5-398A-49AA-8971-74604771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2F82-25E5-47EE-AFBD-D976864F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2254-18EB-4A86-9CE5-C88637A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35173-C5AA-403F-ABFF-1D4BF10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7F12-43DE-4467-8BE6-9AE5ED8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D711-74A0-4032-B0F1-45FF5C9B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D0F5-6A6A-42A1-B933-9AB10D2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734C-467C-4FA7-B49B-8C9B1375C2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075D-33A9-4237-98CB-988C716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BA3F-BC56-4EA3-AD67-BF155A6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C1CC-39E9-4D73-A367-902FC0B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FB92-D73C-46BA-BFBB-F34CB1C7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53B0-E4B0-446D-9F49-BFE0FD62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EE27-5452-4E6A-8A9A-BC8A0E022D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D92-CECE-4A9C-83F6-6CFA68EE6D9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A96-1E85-4ED0-8B7A-F728C797401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F53-D5B4-4672-9DEA-AAD0C8F76BB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086-9D07-4B17-9A03-BF202947C4D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A11D-2916-4A66-9BF9-DBEEB35EC4AD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62B-401C-4D15-9470-46F28750021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0464-23FE-4707-9742-AB4A584B9A67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4D8-4944-474C-8364-558FB3C35D4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3EDC-65DE-4829-89B7-C7EBB18B719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FC2E-BE51-4BB9-A0DC-51A9E88ECC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0E1-A650-4A0D-92BE-C6547A2C883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65B1-4EC0-4EAF-B09D-6ADED4BAD8F6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EC1E-7BD6-4B16-8EEC-BCD1A8AEF1D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636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691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746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799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27A-EE58-44BA-91B0-8369CBEFD5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F2D8-2553-4954-83EB-B1145FF0AE4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A944-48FD-4409-88DD-91835A41ABD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8F2-97CC-47B9-A91A-8A37156E4DC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A84-250B-412F-B579-7E6A8659F6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916-E711-4180-A202-8F8288395E3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ata Dependenc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619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struction writes a register ($s0) and next instructions read this register =&gt; read after write (RAW) depend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s into $s0 in the first half of cycle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on cycle 3, obtaining the wrong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on cycle 4, again obtaining the wrong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Tahoma"/>
              </a:rPr>
              <a:t>sub</a:t>
            </a:r>
            <a:r>
              <a:rPr b="0" lang="en-US" sz="2200" spc="-1" strike="noStrike">
                <a:solidFill>
                  <a:srgbClr val="ffc61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s $s0 in the second half of cycle 5, obtaining the correc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ffc61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instructions read the correct value of $s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619"/>
              </a:buClr>
              <a:buSzPct val="6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4" name="Content Placeholder 4"/>
          <p:cNvGraphicFramePr/>
          <p:nvPr/>
        </p:nvGraphicFramePr>
        <p:xfrm>
          <a:off x="1036800" y="4002120"/>
          <a:ext cx="70704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4002120"/>
                    <a:ext cx="70704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5105520" y="457200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9"/>
          <p:cNvSpPr/>
          <p:nvPr/>
        </p:nvSpPr>
        <p:spPr>
          <a:xfrm>
            <a:off x="3735360" y="5029200"/>
            <a:ext cx="76212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1"/>
          <p:cNvSpPr/>
          <p:nvPr/>
        </p:nvSpPr>
        <p:spPr>
          <a:xfrm>
            <a:off x="4497480" y="559908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5105520" y="6089760"/>
            <a:ext cx="761760" cy="457200"/>
          </a:xfrm>
          <a:prstGeom prst="rect">
            <a:avLst/>
          </a:prstGeom>
          <a:noFill/>
          <a:ln w="507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pile-Time Detection and Elimin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3" name="Content Placeholder 6"/>
          <p:cNvGraphicFramePr/>
          <p:nvPr/>
        </p:nvGraphicFramePr>
        <p:xfrm>
          <a:off x="228600" y="1527120"/>
          <a:ext cx="861048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7120"/>
                    <a:ext cx="861048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 txBox="1"/>
          <p:nvPr/>
        </p:nvSpPr>
        <p:spPr>
          <a:xfrm>
            <a:off x="785520" y="5486400"/>
            <a:ext cx="8358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enough NOPs for the required result to b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(if you can) move independent useful instruction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ata 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already seen the basic idea bef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orward the result value to the dependent instruction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 soon as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datafl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value supplied to dependent instruction as soon as it is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ruction executes when all its operands ar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warding brings a pipeline closer to data flow execution 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EA7-9585-4CBA-8FCE-01F47CA680E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230040" y="2071800"/>
          <a:ext cx="860760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071800"/>
                    <a:ext cx="86076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276120" y="996840"/>
          <a:ext cx="851400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996840"/>
                    <a:ext cx="851400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to Execute stage from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stage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back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hould we forward from one either Memory or Writeback sta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at stage will write a destination register and the destination register matches the source register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to Execute stage from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stage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back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ing logic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wardAE (pseudo cod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  ((rsE != 0) AND (rsE == WriteRegM) AND RegWriteM) then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 if ((rsE != 0) AND (rsE == WriteRegW) AND RegWriteW) then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ing logic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ward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me, but repla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72880" y="4086000"/>
            <a:ext cx="8337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ing is sufficient to resolve RAW data depend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but …There are cases when forwarding is not possible due to pipeline design and instruction la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6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 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data until the end of the Memory stag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61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fore its result </a:t>
            </a:r>
            <a:r>
              <a:rPr b="0" i="1" lang="en-US" sz="2000" spc="-1" strike="noStrike">
                <a:solidFill>
                  <a:srgbClr val="c00000"/>
                </a:solidFill>
                <a:latin typeface="Tahoma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the Execute stage of the next instru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Object 2"/>
          <p:cNvGraphicFramePr/>
          <p:nvPr/>
        </p:nvGraphicFramePr>
        <p:xfrm>
          <a:off x="165240" y="857160"/>
          <a:ext cx="860724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857160"/>
                    <a:ext cx="860724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9" name="Object 2"/>
          <p:cNvGraphicFramePr/>
          <p:nvPr/>
        </p:nvGraphicFramePr>
        <p:xfrm>
          <a:off x="228600" y="2152800"/>
          <a:ext cx="861048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52800"/>
                    <a:ext cx="8610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talling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s are suppor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ng enable inputs (EN) to the Fetch and Decode pipeline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 synchronous reset/clear (CLR) input to the Execute pipeline regist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lw stall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llD and StallF are asserted to force the Decode and Fetch stage pipeline registers to hold their old valu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 is also asserted to clear the contents of the Execute stage pipeline register, introducing a bub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543-7CAF-458E-BDE5-C9B40FB812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996-BC61-4744-93BA-AB7ACFDD505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A62-9C9B-4F97-AC5E-1E8269C8B03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44C-1142-405C-B8BA-D2969D198F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211-E7E8-47FC-A75A-118DC2477F7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CC28-ED39-4ED7-90A7-61A313419A0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1CC-6713-433B-A837-B5B9EBD30D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57D-E417-4C3A-8CEE-CFEC1FFA9D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95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98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0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9767-C91F-465F-AFA4-131FDD6730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01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03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5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05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08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11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14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14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14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17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20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23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23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23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26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29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31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32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32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35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138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140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141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141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144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146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149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149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150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153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155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158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158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159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161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164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167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167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168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170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173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176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176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176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179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182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185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185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185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188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191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194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195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196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197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197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198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199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00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00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01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02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03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03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04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05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06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06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07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08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09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09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10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11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12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12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13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14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15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16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17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18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19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19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20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21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22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22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23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24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691-1BB7-47F3-BAA7-A980A30DA0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37C-2D83-4554-8571-DADCE12F3E5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858-1B5E-40F4-AF2B-6A877192A42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7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3B7-729A-42F9-8C0C-3027070568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528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533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538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543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548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553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558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563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7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8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4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1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9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8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B04-3BB0-4413-BC1A-1DB5BDE4F13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30C-10A0-4545-A3BC-C71C0E32128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B0C-4A3E-42AC-9A4F-AE40FBD8C6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4DF-30B0-4530-BCF1-A05F2633FE4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0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2341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9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2350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D19-28A1-44DB-95F1-098EFA3AAE6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7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2358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0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2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2363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2372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2377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2378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6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7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9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0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1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2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3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5" name="Straight Arrow Connector 42"/>
          <p:cNvCxnSpPr>
            <a:stCxn id="2360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6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7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8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9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25D-015B-4295-BAEB-FB995AFDFF4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6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2407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2412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3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4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2425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9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2430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2435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2440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4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5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2446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AF18-2F7E-482F-ACCE-29012F4677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8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192320" indent="-28116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F20-E84E-472C-94DA-C996A2055D9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921D-A6B8-45B2-8F44-43638A49110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32F9-6344-4E65-8ED9-8BB871FA4F1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6DC6-F97D-42B0-BE27-27A6B95A78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A09-1E67-4201-949E-1BBF0DB1C71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652-811C-41E2-86C2-6A6BB1341B6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4: Pipelining Issu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 did not cover the following slides. They are for your preparation for the next lectur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0B0C-8A53-48D1-A153-C6F1588F51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241-0553-432D-974D-66741CFDA0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5" name="Straight Arrow Connector 75"/>
          <p:cNvCxnSpPr>
            <a:stCxn id="2569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6" name="Straight Arrow Connector 77"/>
          <p:cNvCxnSpPr>
            <a:stCxn id="2570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7" name="Straight Arrow Connector 79"/>
          <p:cNvCxnSpPr>
            <a:stCxn id="2571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8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9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1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2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4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5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6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7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9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C96D-002C-4A03-B00E-95763C68F3D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9C1-A794-4934-B9E9-A401190055E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D16-9644-4ECF-A0B5-AEADCD36C86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2617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8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36F1-1ED5-44E7-85D8-A4BA0C44AB4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6" name="Straight Arrow Connector 15"/>
          <p:cNvCxnSpPr>
            <a:stCxn id="2670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7" name="Straight Arrow Connector 16"/>
          <p:cNvCxnSpPr>
            <a:stCxn id="2671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8" name="Straight Arrow Connector 17"/>
          <p:cNvCxnSpPr>
            <a:stCxn id="2672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9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0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1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2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4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5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6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7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9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690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1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2692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2693" name="Straight Arrow Connector 39"/>
          <p:cNvCxnSpPr>
            <a:stCxn id="2665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4" name="Straight Arrow Connector 41"/>
          <p:cNvCxnSpPr>
            <a:stCxn id="2673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5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9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00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4B4-F310-49B2-8EF6-B707672B250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1F20-BDE7-446F-B45B-B07BC67C89D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8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2709" name="Rectangle 9"/>
          <p:cNvSpPr/>
          <p:nvPr/>
        </p:nvSpPr>
        <p:spPr>
          <a:xfrm>
            <a:off x="5638680" y="28954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1" name=""/>
          <p:cNvSpPr txBox="1"/>
          <p:nvPr/>
        </p:nvSpPr>
        <p:spPr>
          <a:xfrm>
            <a:off x="228240" y="996480"/>
            <a:ext cx="8682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’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 and outpu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961-3E5E-42A0-9906-A86A7BB83C2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49D-35BC-46A4-9EA6-50C13167A5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7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752-1BD4-4E64-AFE3-6ED8C0E1B6C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9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2720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2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4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2725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3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2734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2739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2740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8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9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1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2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3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4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55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6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7" name="Straight Arrow Connector 42"/>
          <p:cNvCxnSpPr>
            <a:stCxn id="2722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8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9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0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1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6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7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704-93F4-4701-8864-B0038EFD452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003-9D10-4FBD-8F31-262301CDC1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6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8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42A-CDA7-438E-8276-100F776D579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9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F133-4A0E-453E-83BF-1F7F047AA3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18A-2CD1-4230-BA0B-A19924EB8F4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1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AC8E-B716-488B-AA71-8EC68183B5D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3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2804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0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280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E8B-B6A6-403D-B886-6819B87919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8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2809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9F2-8AFF-44CF-B65A-282F72C4F4D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621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622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625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7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630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27T11:01:42Z</cp:lastPrinted>
  <dcterms:modified xsi:type="dcterms:W3CDTF">2019-04-05T16:50:56Z</dcterms:modified>
  <cp:revision>447</cp:revision>
  <dc:subject/>
  <dc:title>18-741  Advanced Computer Architecture Lecture 1: Intro and Basics</dc:title>
</cp:coreProperties>
</file>